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B716-51C4-48D3-A6E6-F2393C06A90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gebra 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br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se Word Phr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s plu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decrease b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 less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b increased by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a number &amp;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These Word Phr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s plus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decrease by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1 less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b increased by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a number &amp;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 -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3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+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e each algebraic expression when x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 -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e each algebraic expression when x =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4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– x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2 - 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is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te This T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is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te This T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Algebraic Expression for These Sit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tt’s brother is 2 years younger than Sco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two numbers is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 between two numbers is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+ c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– n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n Algebraic Expression for These Situ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ott’s brother is 2 years younger than Scot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two numbers is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ifference between two numbers is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-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+ c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– n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– A variable is a letter or symbol that represents a number (unknown quantit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+ n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riable – A variable is a letter or symbol that represents a number (unknown quantity)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n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able can use any letter of the alphab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variable can use any letter of the alphab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–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- 2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expression – a group of numbers, symbols, and variables that express an operation or a series of ope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gebraic expression – a group of numbers, symbols, and variables that express an operation or a series of opera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–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e an algebraic expression – To find the value of an algebraic expression by substituting numbers for vari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+ 8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– 3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e an algebraic expression – To find the value of an algebraic expression by substituting numbers for variab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2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8 =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– 3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= 5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– 3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ify – Combine like terms and complete all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 + 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 x 2) +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+ 8 =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mplify – Combine like terms and complete all oper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 + 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m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2 x 2) + 8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8 = 12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Lead to 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ds That Lead to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re tha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rea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toge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Lead to 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ds That Lead to 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crea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any mo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se Word Phr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decrease by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less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increased by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a number &amp;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These Word Phr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n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decrease by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less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increased by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a number &amp;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-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+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9364-84CF-4F29-B89A-7BB1C75B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70B2-070B-44D3-9DCF-4C6E9273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4D8-94CA-4828-AEAD-08E09257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2E3-F8A0-408F-8332-87DFFAAA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C79F-499D-4BFD-AB1C-ED8AAC3F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A373-D4EC-45A5-A0F8-9C2C94BE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4B95-4A20-4955-9CBE-8F5C3CD2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E102-8F33-4E59-B8D6-28D7D55F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FEE8-B924-47DF-9EA9-22EEAEFE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E3CB-E89F-4AFB-903D-4C712BF8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7484-4B1B-4048-95B2-A4AE24F6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FCDC-4762-423D-A9FD-2F56A354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E4CA-64BD-42D6-B03B-0B770DA5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98B9-A40E-4FF4-9F28-9C0D30AA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BBDC-998F-4039-830F-9FF5F790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D774-FBAF-47F2-A2F5-1CEDC06C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7BEA-A78E-4408-AF55-76C30AD5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220-9007-4FDF-9971-7345F396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4C77-A4B2-4336-B2F6-E61276D5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E27F-F9B8-4AB8-8FF0-5DEACE66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716B-ACB3-4C96-82EF-0A78AC56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5E41-D767-49FA-9602-EDC4EC19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CEF-37E9-45D0-B2A0-42C10270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0F4-5E27-4A28-A14A-E5BF6DDE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6FEC-FBB0-4CFF-A0D3-B2DC205611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1D81-72F3-48BC-8364-C22F262513C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Algebra I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r. Clut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llegas Middle Scho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bra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006-200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lgebraic Expression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 These Word Phr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s plus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decrease by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1 less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b increased by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um of a number &amp;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18840" y="2004840"/>
            <a:ext cx="127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+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9343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 -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933960" y="3657600"/>
            <a:ext cx="148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 - 3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9346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 +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9346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934320" y="60958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z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valuate each algebraic expression when x = 10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2438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4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– x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-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2 -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4320" y="2057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199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019920" y="3657600"/>
            <a:ext cx="74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249600" y="45720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249600" y="52578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01992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lete This T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38280" y="2209680"/>
          <a:ext cx="4419720" cy="38102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 - 3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44"/>
          <p:cNvSpPr/>
          <p:nvPr/>
        </p:nvSpPr>
        <p:spPr>
          <a:xfrm>
            <a:off x="5487480" y="2971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45"/>
          <p:cNvSpPr/>
          <p:nvPr/>
        </p:nvSpPr>
        <p:spPr>
          <a:xfrm>
            <a:off x="5487480" y="3733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46"/>
          <p:cNvSpPr/>
          <p:nvPr/>
        </p:nvSpPr>
        <p:spPr>
          <a:xfrm>
            <a:off x="5334480" y="4495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47"/>
          <p:cNvSpPr/>
          <p:nvPr/>
        </p:nvSpPr>
        <p:spPr>
          <a:xfrm>
            <a:off x="5334120" y="5257800"/>
            <a:ext cx="74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lete This T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38280" y="2209680"/>
          <a:ext cx="4419720" cy="38102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+ 6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23"/>
          <p:cNvSpPr/>
          <p:nvPr/>
        </p:nvSpPr>
        <p:spPr>
          <a:xfrm>
            <a:off x="5410800" y="2971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541080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5410800" y="4495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5410080" y="525780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n Algebraic Expression for These Situ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cott’s brother is 2 years younger than Scot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sum of two numbers is 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difference between two numbers is 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115160" y="274320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-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114080" y="4267080"/>
            <a:ext cx="24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 + c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114800" y="5638680"/>
            <a:ext cx="23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– n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ariable – A variable is a letter or symbol that represents a number (unknown quantity)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variable can use any letter of the alphabe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+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–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- 2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gebraic expression – a group of numbers, symbols, and variables that express an operation or a series of operatio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 + 8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– 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valuate an algebraic expression – To find the value of an algebraic expression by substituting numbers for variabl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+ 8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 = 2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 + 8 = 1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– 3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= 5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5 – 3 = 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mplify – Combine like terms and complete all opera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+ 8 + m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 m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2 x 2) + 8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+ 8 = 12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Words That Lead to Addi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re tha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creas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togeth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Words That Lead to Subtrac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ecreas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fferen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in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many mo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lgebraic Expression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 These Word Phr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632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n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decrease by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 less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increased by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um of a number &amp;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918480" y="2004840"/>
            <a:ext cx="161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1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9343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 -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934320" y="3657600"/>
            <a:ext cx="120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 -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9346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9346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934320" y="60958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 +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4:00:10Z</dcterms:created>
  <dc:creator>Mr. Clutter</dc:creator>
  <dc:description/>
  <dc:language>en-US</dc:language>
  <cp:lastModifiedBy>RomaK</cp:lastModifiedBy>
  <dcterms:modified xsi:type="dcterms:W3CDTF">2015-09-04T07:36:07Z</dcterms:modified>
  <cp:revision>8</cp:revision>
  <dc:subject/>
  <dc:title>Algebra- Definitions</dc:title>
</cp:coreProperties>
</file>